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2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26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9426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9727-0911-49B6-B699-27A17D2A0B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9426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3F27-18F5-4459-B87D-372CABD14E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2E8E-1DB2-4343-98C0-27DD9FD1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96D3-E7C6-4FD8-B8D6-B869B083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549B-85AB-4A7C-86FA-DE9A8D0B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4BB0-A15F-46ED-A990-A96FA19A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31B5-83D8-4554-842D-2618C986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2A4F-5A10-42CD-B657-14D247BE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4F4C-E86A-4E34-B1C1-35E3AFB5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78ED-81DA-43E1-AB8E-D1A75E50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DAE5-9F53-4308-9BA1-C19CAE8D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32AA-5176-45FF-AE88-24A2D5B1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5B63-DD13-48F8-B69D-7B921126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5E3B-47D1-4B3D-BB70-0F5A660A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7D57-4AD2-42AC-99BE-E96FDD20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848D-A5FF-468E-968A-16DC1914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B473-DEA6-4658-BBCD-0FB31856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FCDB-426B-4ABD-981F-E43041CE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0E5A-6D93-41C0-B6A0-351E0CD5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4813-5255-4834-95E9-3F8F3C7B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D2B2-29DF-4528-80BC-F44F0458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061D-2CA4-409F-BE2E-687E15B5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2098-272F-47B2-8A90-92FC4F04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836-3750-4B8B-8020-066FAB8C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21E1-718D-438E-A6DE-084CA39E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38D0-AB8D-4A2B-B418-0361E7B2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372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273E-BD86-4340-BB20-2554C00D263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372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BF02-839D-4B34-B245-873F2503183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7876-F727-4383-B489-8E7D40C695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iferquery.singlewindow.c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-1413000" y="1752480"/>
            <a:ext cx="11944440" cy="2546640"/>
          </a:xfrm>
          <a:prstGeom prst="ellipse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полномочия Управления Россельхознадзора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нарушения, выявляемые в ходе контрольно-надзорных мероприят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начение федеральной государственной информационной системы прослеживаемости пестицидов и агрохимикатов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ФГИС ПП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\\Sv-file\фото и видео\Герб_Россельхознадзора\rosselkhoznadzor_emb_n9361.jpg"/>
          <p:cNvPicPr/>
          <p:nvPr/>
        </p:nvPicPr>
        <p:blipFill>
          <a:blip r:embed="rId1"/>
          <a:stretch/>
        </p:blipFill>
        <p:spPr>
          <a:xfrm>
            <a:off x="569880" y="4446720"/>
            <a:ext cx="1673280" cy="17985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4343400" y="5370480"/>
            <a:ext cx="4040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Филимохин Валентин Серг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4343400" y="5745240"/>
            <a:ext cx="46069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меститель руководите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авления Россельхознадзора по Красноярскому кра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76200" y="196560"/>
            <a:ext cx="8229600" cy="112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ирование зерн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33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36" name="Заголовок 1"/>
          <p:cNvSpPr/>
          <p:nvPr/>
        </p:nvSpPr>
        <p:spPr>
          <a:xfrm>
            <a:off x="860400" y="2138400"/>
            <a:ext cx="74566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193680" y="1541520"/>
            <a:ext cx="868680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2286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орган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го контроля (надзора)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изнает декларацию о соответствии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недействительной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в случаях выявления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ных фактов несоответствия продукции обязательным требованиям технических регламентов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оверных сведений о заявителе и (или) об изготовителе продукции, адресах их места нахождения и (или) осуществления деятельности, в том числе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месте (местах) осуществления деятельности по изготовлению продукции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ларации о соответстви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оверности сведений и документов, послуживших основанием для подтверждения соответствия продукции обязательным требованиям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ответствия декларации о соответствии требованиям к декларациям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оответствии, установленным законодательством Российской Федерации в сфере технического регулирования и (или) правом Евразийского экономического союза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декларации о соответствии с нарушением установленных процедур обязательного подтверждения соответств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декларации о соответствии лицом, не включенным в круг заявителей на оценку соответствия по выбранной схеме декларирования, определенный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техническим регламенто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ижний колонтитул 3"/>
          <p:cNvSpPr/>
          <p:nvPr/>
        </p:nvSpPr>
        <p:spPr>
          <a:xfrm>
            <a:off x="2590920" y="139680"/>
            <a:ext cx="5478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40" name="TextBox 7"/>
          <p:cNvSpPr/>
          <p:nvPr/>
        </p:nvSpPr>
        <p:spPr>
          <a:xfrm>
            <a:off x="125280" y="496800"/>
            <a:ext cx="9001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рушения при соблюдении требований Технического регламента «О безопасности зер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4986360" y="1773360"/>
            <a:ext cx="4140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4461480" y="3290760"/>
            <a:ext cx="221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X:\ОТДЕЛЫ\Отдел семеноводства\Внутренние\Общий Семена\ФОТО по проверкам\Зерно 2019\СПК Юбилейный\SAM_5304.JPG"/>
          <p:cNvPicPr/>
          <p:nvPr/>
        </p:nvPicPr>
        <p:blipFill>
          <a:blip r:embed="rId2"/>
          <a:stretch/>
        </p:blipFill>
        <p:spPr>
          <a:xfrm>
            <a:off x="6248520" y="3657600"/>
            <a:ext cx="2782800" cy="265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Прямоугольник 1"/>
          <p:cNvSpPr/>
          <p:nvPr/>
        </p:nvSpPr>
        <p:spPr>
          <a:xfrm>
            <a:off x="125280" y="2743200"/>
            <a:ext cx="61232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мотре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7,8 тыс. тонн зер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нспектирова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 партии объемом 161,5 тыс. тон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партий некачественной продукции – 12,5  тыс. тон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всего фиксировались факты наруш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оверное декларирование соответствия зерна допустили  62  заявителя, в результате прекращено 132 декларации о соответств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 в обращение (реализация) зерна на единую Таможенную территорию без документов, подтверждающих безопасность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чество – 44  нару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рушение порядка реализации продукции – 3 нару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правил хранения зерна – 1 случа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367080" y="1946160"/>
          <a:ext cx="5624640" cy="1482840"/>
        </p:xfrm>
        <a:graphic>
          <a:graphicData uri="http://schemas.openxmlformats.org/drawingml/2006/table">
            <a:tbl>
              <a:tblPr/>
              <a:tblGrid>
                <a:gridCol w="1285920"/>
                <a:gridCol w="731880"/>
                <a:gridCol w="731880"/>
                <a:gridCol w="658800"/>
                <a:gridCol w="731880"/>
                <a:gridCol w="658800"/>
                <a:gridCol w="825480"/>
              </a:tblGrid>
              <a:tr h="3351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йствие декла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краще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6200" y="3967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е в законодательстве в области семеноводств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47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50" name="Заголовок 1"/>
          <p:cNvSpPr/>
          <p:nvPr/>
        </p:nvSpPr>
        <p:spPr>
          <a:xfrm>
            <a:off x="582480" y="1143000"/>
            <a:ext cx="8342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ентября 2023 вступает в силу новый закон о семеноводстве  от 30.12.2021 № 454-Ф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ях реализации полномочий в области семеноводства сельскохозяйственных растений федеральным органом исполнительной власти, осуществляющим функци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ыработке государственной политики и нормативно-правовому регулированию в области семеноводства сельскохозяйственных растений, обеспечения прослеживаемости оборота семян сельскохозяйственных растений, автоматизации информирования юридических лиц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физических лиц, в том числе индивидуальных предпринимателей создается Федеральная государственная информационная система в сфере семеноводства сельскохозяйственных растений (ФГИС «Семеноводство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«Семеноводство» обеспечит получение актуальных сведений в сфере семеноводства в режиме реального времен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храняемых селекционных достижениях (сортах, гибридах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елекционных достижениях (сортах, гибридах), допущенных к использованию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кретном регионе возделывания или световой зо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наличии и качестве семян сельскохозяйственных растений, произведенных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Российской Федерации, предлагаемых к реализации производителем этих семя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еменах, завезенных на территорию Российской Федерации из-за рубеж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228600" y="3997440"/>
            <a:ext cx="8686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5"/>
          <p:cNvSpPr/>
          <p:nvPr/>
        </p:nvSpPr>
        <p:spPr>
          <a:xfrm>
            <a:off x="569880" y="138240"/>
            <a:ext cx="7682040" cy="43164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ые нарушения требований земельного законод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138240" y="666720"/>
            <a:ext cx="8935920" cy="761400"/>
          </a:xfrm>
          <a:prstGeom prst="rect">
            <a:avLst/>
          </a:prstGeom>
          <a:noFill/>
          <a:ln w="0">
            <a:noFill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1 году выявлено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,9 тыс. га зем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льскохозяйственного назначения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спользуемых для сельскохозяйственного производства, зарастающих сорными растениями, деревьями, кустарника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 предписаниям Управлени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льскохозяйственный оборот введено 5,7 тыс. г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ее неиспользуемых земе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833640" y="1508040"/>
          <a:ext cx="5227920" cy="2900520"/>
        </p:xfrm>
        <a:graphic>
          <a:graphicData uri="http://schemas.openxmlformats.org/drawingml/2006/table">
            <a:tbl>
              <a:tblPr/>
              <a:tblGrid>
                <a:gridCol w="5227920"/>
              </a:tblGrid>
              <a:tr h="2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бования нормативно-правовых а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285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3 ч.2 ст. 13, абз. 2, 4, ст. 42 Земельного Кодекса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671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8  Федерального закона от 16.07.1998  № 101- ФЗ «О государственном регулировании обеспечения плодородия земель сельскохозяйственного назначен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25, 29, 29.1, 30, 32 Федерального закона Российской Федерации от 10.01.1996 № 4-ФЗ "О мелиорации земель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1181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епользователи обязаны проводить мероприятия по защите сельскохозяйственных угодий от зарастания деревьями и кустарниками, сорными растениями, по сохранению мелиоративных защитных лесных насаждений, сохранению достигнутого уровня мелиорац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земельные участки в соответствии с их целевым назначе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5" name="Прямоугольник 13"/>
          <p:cNvSpPr/>
          <p:nvPr/>
        </p:nvSpPr>
        <p:spPr>
          <a:xfrm>
            <a:off x="138240" y="5506920"/>
            <a:ext cx="169056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ый штра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. 2 ст. 8.8,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 2 ст. 8.7 КоАП Р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3 до 700 тыс. руб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0"/>
          <p:cNvSpPr/>
          <p:nvPr/>
        </p:nvSpPr>
        <p:spPr>
          <a:xfrm>
            <a:off x="4094280" y="5506920"/>
            <a:ext cx="3733560" cy="106956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удительное изъятие земельного участ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фиксации государственным надзорным органом случаев неиспользования земельного участка в течение 3 лет подряд и более и неисполнения предписания об устранении нарушений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"/>
          <p:cNvSpPr/>
          <p:nvPr/>
        </p:nvSpPr>
        <p:spPr>
          <a:xfrm>
            <a:off x="569880" y="4408560"/>
            <a:ext cx="8035920" cy="40032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указанных требований влеч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6"/>
          <p:cNvSpPr/>
          <p:nvPr/>
        </p:nvSpPr>
        <p:spPr>
          <a:xfrm>
            <a:off x="2001960" y="5506920"/>
            <a:ext cx="194940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налоговой ставк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,5% от кадастровой стоимости земельного участ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8"/>
          <p:cNvSpPr/>
          <p:nvPr/>
        </p:nvSpPr>
        <p:spPr>
          <a:xfrm>
            <a:off x="7956720" y="5506920"/>
            <a:ext cx="96804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рочное расторжение договора аренд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трелка вниз 37"/>
          <p:cNvSpPr/>
          <p:nvPr/>
        </p:nvSpPr>
        <p:spPr>
          <a:xfrm>
            <a:off x="8278920" y="4832280"/>
            <a:ext cx="347400" cy="646200"/>
          </a:xfrm>
          <a:prstGeom prst="downArrow">
            <a:avLst>
              <a:gd name="adj1" fmla="val 50000"/>
              <a:gd name="adj2" fmla="val 5004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15" descr="C:\Users\babichenko\Desktop\Фото\Зарастание\DSC06353.JPG"/>
          <p:cNvPicPr/>
          <p:nvPr/>
        </p:nvPicPr>
        <p:blipFill>
          <a:blip r:embed="rId1"/>
          <a:stretch/>
        </p:blipFill>
        <p:spPr>
          <a:xfrm>
            <a:off x="152280" y="1600200"/>
            <a:ext cx="3567240" cy="2678040"/>
          </a:xfrm>
          <a:prstGeom prst="rect">
            <a:avLst/>
          </a:prstGeom>
          <a:ln w="0">
            <a:noFill/>
          </a:ln>
        </p:spPr>
      </p:pic>
      <p:sp>
        <p:nvSpPr>
          <p:cNvPr id="162" name="Стрелка вниз 15"/>
          <p:cNvSpPr/>
          <p:nvPr/>
        </p:nvSpPr>
        <p:spPr>
          <a:xfrm>
            <a:off x="578628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низ 16"/>
          <p:cNvSpPr/>
          <p:nvPr/>
        </p:nvSpPr>
        <p:spPr>
          <a:xfrm>
            <a:off x="80964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трелка вниз 18"/>
          <p:cNvSpPr/>
          <p:nvPr/>
        </p:nvSpPr>
        <p:spPr>
          <a:xfrm>
            <a:off x="278136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5"/>
          <p:cNvSpPr/>
          <p:nvPr/>
        </p:nvSpPr>
        <p:spPr>
          <a:xfrm>
            <a:off x="324000" y="103320"/>
            <a:ext cx="8453160" cy="64764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в области безопасного обращ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естицидами и агрохимика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TextBox 6"/>
          <p:cNvGrpSpPr/>
          <p:nvPr/>
        </p:nvGrpSpPr>
        <p:grpSpPr>
          <a:xfrm>
            <a:off x="249120" y="768240"/>
            <a:ext cx="8736120" cy="1346400"/>
            <a:chOff x="249120" y="768240"/>
            <a:chExt cx="8736120" cy="1346400"/>
          </a:xfrm>
        </p:grpSpPr>
        <p:pic>
          <p:nvPicPr>
            <p:cNvPr id="167" name="TextBox 6" descr=""/>
            <p:cNvPicPr/>
            <p:nvPr/>
          </p:nvPicPr>
          <p:blipFill>
            <a:blip r:embed="rId1"/>
            <a:stretch/>
          </p:blipFill>
          <p:spPr>
            <a:xfrm>
              <a:off x="249120" y="768240"/>
              <a:ext cx="873612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24000" y="838080"/>
              <a:ext cx="845316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явлены нарушения регламентов применения пестицидов и агрохимикатов на площади 5,2 тыс. га: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менение пестицидов, не разрешенных на территории РФ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рушение норм (доз) внесения агрохимикатов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оповещение населения об обработке полей пестицидами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Прямоугольник 17"/>
          <p:cNvGrpSpPr/>
          <p:nvPr/>
        </p:nvGrpSpPr>
        <p:grpSpPr>
          <a:xfrm>
            <a:off x="128520" y="6345360"/>
            <a:ext cx="3589560" cy="164880"/>
            <a:chOff x="128520" y="6345360"/>
            <a:chExt cx="3589560" cy="164880"/>
          </a:xfrm>
        </p:grpSpPr>
        <p:pic>
          <p:nvPicPr>
            <p:cNvPr id="170" name="Прямоугольник 17" descr=""/>
            <p:cNvPicPr/>
            <p:nvPr/>
          </p:nvPicPr>
          <p:blipFill>
            <a:blip r:embed="rId2"/>
            <a:stretch/>
          </p:blipFill>
          <p:spPr>
            <a:xfrm>
              <a:off x="129600" y="6346800"/>
              <a:ext cx="3586680" cy="16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28520" y="6345360"/>
              <a:ext cx="35895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Рисунок 8" descr="C:\Users\babichenko\Desktop\впап.png"/>
          <p:cNvPicPr/>
          <p:nvPr/>
        </p:nvPicPr>
        <p:blipFill>
          <a:blip r:embed="rId3"/>
          <a:stretch/>
        </p:blipFill>
        <p:spPr>
          <a:xfrm>
            <a:off x="6191280" y="1935000"/>
            <a:ext cx="2585880" cy="210060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DSC07688"/>
          <p:cNvPicPr/>
          <p:nvPr/>
        </p:nvPicPr>
        <p:blipFill>
          <a:blip r:embed="rId4"/>
          <a:stretch/>
        </p:blipFill>
        <p:spPr>
          <a:xfrm>
            <a:off x="395280" y="1935000"/>
            <a:ext cx="2698920" cy="21006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0" descr="DSC07682"/>
          <p:cNvPicPr/>
          <p:nvPr/>
        </p:nvPicPr>
        <p:blipFill>
          <a:blip r:embed="rId5"/>
          <a:stretch/>
        </p:blipFill>
        <p:spPr>
          <a:xfrm>
            <a:off x="6191280" y="4219560"/>
            <a:ext cx="2585880" cy="210996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1" descr="DSC07618"/>
          <p:cNvPicPr/>
          <p:nvPr/>
        </p:nvPicPr>
        <p:blipFill>
          <a:blip r:embed="rId6"/>
          <a:stretch/>
        </p:blipFill>
        <p:spPr>
          <a:xfrm>
            <a:off x="3252960" y="1935000"/>
            <a:ext cx="2769840" cy="21006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2" descr="DSC00473"/>
          <p:cNvPicPr/>
          <p:nvPr/>
        </p:nvPicPr>
        <p:blipFill>
          <a:blip r:embed="rId7"/>
          <a:stretch/>
        </p:blipFill>
        <p:spPr>
          <a:xfrm>
            <a:off x="395280" y="4219560"/>
            <a:ext cx="2698920" cy="21099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3" descr="DSC00478"/>
          <p:cNvPicPr/>
          <p:nvPr/>
        </p:nvPicPr>
        <p:blipFill>
          <a:blip r:embed="rId8"/>
          <a:stretch/>
        </p:blipFill>
        <p:spPr>
          <a:xfrm>
            <a:off x="3289320" y="4219560"/>
            <a:ext cx="27334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5"/>
          <p:cNvSpPr/>
          <p:nvPr/>
        </p:nvSpPr>
        <p:spPr>
          <a:xfrm>
            <a:off x="127080" y="163440"/>
            <a:ext cx="8878680" cy="91440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создания и задачи Федеральной государственной информационной системы прослеживаемости пестицид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агрохимикатов (ФГИС П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Прямоугольник 17"/>
          <p:cNvGrpSpPr/>
          <p:nvPr/>
        </p:nvGrpSpPr>
        <p:grpSpPr>
          <a:xfrm>
            <a:off x="128520" y="6345360"/>
            <a:ext cx="3589560" cy="164880"/>
            <a:chOff x="128520" y="6345360"/>
            <a:chExt cx="3589560" cy="164880"/>
          </a:xfrm>
        </p:grpSpPr>
        <p:pic>
          <p:nvPicPr>
            <p:cNvPr id="180" name="Прямоугольник 17" descr=""/>
            <p:cNvPicPr/>
            <p:nvPr/>
          </p:nvPicPr>
          <p:blipFill>
            <a:blip r:embed="rId1"/>
            <a:stretch/>
          </p:blipFill>
          <p:spPr>
            <a:xfrm>
              <a:off x="129600" y="6346800"/>
              <a:ext cx="3586680" cy="16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28520" y="6345360"/>
              <a:ext cx="35895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Прямоугольник 3"/>
          <p:cNvSpPr/>
          <p:nvPr/>
        </p:nvSpPr>
        <p:spPr>
          <a:xfrm>
            <a:off x="415800" y="1749600"/>
            <a:ext cx="8496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м законом № 522-ФЗ в ред. от 28.06.2021 № 221-ФЗ внесены изменения в Федеральный закон от 19.07.1997 № 109-ФЗ «О безопасном обращении с пестицидами и агрохимикатами», в частности, закон дополнен ст. 15.2 о создании Федеральной государственной информационной системы прослеживаемости пестицидов и агрохимикатов (ФГИС ППА), которая вступает в силу с 1 июля 2022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2"/>
          <p:cNvSpPr/>
          <p:nvPr/>
        </p:nvSpPr>
        <p:spPr>
          <a:xfrm>
            <a:off x="415800" y="3244680"/>
            <a:ext cx="8496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ППА создается в целях обеспечения учета партий пестицидов и агрохимикатов при их обращении (производстве (изготовлении), хранении, перевозке (транспортировке), применении, реализации, обезвреживании, утилизации, уничтожении и захоронении), а также осуществления анализа, обработки представленных в ней сведений и информации и контроля за достоверностью таких сведений и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4"/>
          <p:cNvSpPr/>
          <p:nvPr/>
        </p:nvSpPr>
        <p:spPr>
          <a:xfrm>
            <a:off x="415800" y="4681440"/>
            <a:ext cx="84981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леживаемость пестицидов и агрохимикатов обеспечивается с момента их ввода в обращение производство или ввоз на территорию Российской Федерации (оформление электронных производственных сертификатов или гашение импортных электронных сертификатов) до момента вывода из обращения – вывоза с территории РФ, применения, розничной реализации гражданам для ведения личного подсобного хозяйства, обезвреживания, утилизации, уничтожения и захоронения (оформление электронных актов вывода из обращения с указанием способа выво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рослеживаемости пестицидов и агрохимикатов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ГИС «Сатурн»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Прямоугольник 4"/>
          <p:cNvSpPr/>
          <p:nvPr/>
        </p:nvSpPr>
        <p:spPr>
          <a:xfrm>
            <a:off x="903240" y="1434960"/>
            <a:ext cx="2335320" cy="810360"/>
          </a:xfrm>
          <a:prstGeom prst="rect">
            <a:avLst/>
          </a:prstGeom>
          <a:solidFill>
            <a:srgbClr val="c9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убежное предприятие-поставщ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5"/>
          <p:cNvSpPr/>
          <p:nvPr/>
        </p:nvSpPr>
        <p:spPr>
          <a:xfrm>
            <a:off x="893880" y="2573280"/>
            <a:ext cx="2333520" cy="719640"/>
          </a:xfrm>
          <a:prstGeom prst="rect">
            <a:avLst/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 пропуска через государственную границу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6"/>
          <p:cNvSpPr/>
          <p:nvPr/>
        </p:nvSpPr>
        <p:spPr>
          <a:xfrm>
            <a:off x="893880" y="3639960"/>
            <a:ext cx="2333520" cy="719640"/>
          </a:xfrm>
          <a:prstGeom prst="rect">
            <a:avLst/>
          </a:prstGeom>
          <a:solidFill>
            <a:srgbClr val="c8e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временного хра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7"/>
          <p:cNvSpPr/>
          <p:nvPr/>
        </p:nvSpPr>
        <p:spPr>
          <a:xfrm>
            <a:off x="873000" y="4605480"/>
            <a:ext cx="2333880" cy="1145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получателя пестицидов и агрохимик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9"/>
          <p:cNvSpPr/>
          <p:nvPr/>
        </p:nvSpPr>
        <p:spPr>
          <a:xfrm>
            <a:off x="5557680" y="1454040"/>
            <a:ext cx="2387880" cy="810360"/>
          </a:xfrm>
          <a:prstGeom prst="rect">
            <a:avLst/>
          </a:prstGeom>
          <a:solidFill>
            <a:srgbClr val="c9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ель пестицидов и агрохимикато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0"/>
          <p:cNvSpPr/>
          <p:nvPr/>
        </p:nvSpPr>
        <p:spPr>
          <a:xfrm>
            <a:off x="5557680" y="2616120"/>
            <a:ext cx="2386080" cy="719640"/>
          </a:xfrm>
          <a:prstGeom prst="rect">
            <a:avLst/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ничный скл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1"/>
          <p:cNvSpPr/>
          <p:nvPr/>
        </p:nvSpPr>
        <p:spPr>
          <a:xfrm>
            <a:off x="888840" y="5883120"/>
            <a:ext cx="2333880" cy="719640"/>
          </a:xfrm>
          <a:prstGeom prst="rect">
            <a:avLst/>
          </a:prstGeom>
          <a:solidFill>
            <a:srgbClr val="caf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ничный скл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трелка вправо 27"/>
          <p:cNvSpPr/>
          <p:nvPr/>
        </p:nvSpPr>
        <p:spPr>
          <a:xfrm>
            <a:off x="3463920" y="6035760"/>
            <a:ext cx="861840" cy="2016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C:\Users\babichenko\Desktop\Сайт\Итоги\Фото овощеводы\DSC00328.JPG"/>
          <p:cNvPicPr/>
          <p:nvPr/>
        </p:nvPicPr>
        <p:blipFill>
          <a:blip r:embed="rId1"/>
          <a:stretch/>
        </p:blipFill>
        <p:spPr>
          <a:xfrm>
            <a:off x="4700520" y="4175280"/>
            <a:ext cx="3498840" cy="2597040"/>
          </a:xfrm>
          <a:prstGeom prst="rect">
            <a:avLst/>
          </a:prstGeom>
          <a:ln w="0">
            <a:noFill/>
          </a:ln>
        </p:spPr>
      </p:pic>
      <p:sp>
        <p:nvSpPr>
          <p:cNvPr id="195" name="Стрелка вниз 3081"/>
          <p:cNvSpPr/>
          <p:nvPr/>
        </p:nvSpPr>
        <p:spPr>
          <a:xfrm>
            <a:off x="6810480" y="3395520"/>
            <a:ext cx="187200" cy="621000"/>
          </a:xfrm>
          <a:prstGeom prst="downArrow">
            <a:avLst>
              <a:gd name="adj1" fmla="val 50000"/>
              <a:gd name="adj2" fmla="val 5005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трелка вниз 3082"/>
          <p:cNvSpPr/>
          <p:nvPr/>
        </p:nvSpPr>
        <p:spPr>
          <a:xfrm>
            <a:off x="6810480" y="2303640"/>
            <a:ext cx="190440" cy="2696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трелка вниз 43"/>
          <p:cNvSpPr/>
          <p:nvPr/>
        </p:nvSpPr>
        <p:spPr>
          <a:xfrm>
            <a:off x="1941480" y="2303640"/>
            <a:ext cx="192240" cy="269640"/>
          </a:xfrm>
          <a:prstGeom prst="downArrow">
            <a:avLst>
              <a:gd name="adj1" fmla="val 50000"/>
              <a:gd name="adj2" fmla="val 4991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трелка вниз 44"/>
          <p:cNvSpPr/>
          <p:nvPr/>
        </p:nvSpPr>
        <p:spPr>
          <a:xfrm>
            <a:off x="1944720" y="3370320"/>
            <a:ext cx="190440" cy="2696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трелка вниз 45"/>
          <p:cNvSpPr/>
          <p:nvPr/>
        </p:nvSpPr>
        <p:spPr>
          <a:xfrm>
            <a:off x="1944720" y="4394160"/>
            <a:ext cx="190440" cy="26820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трелка вниз 46"/>
          <p:cNvSpPr/>
          <p:nvPr/>
        </p:nvSpPr>
        <p:spPr>
          <a:xfrm>
            <a:off x="1944720" y="5580000"/>
            <a:ext cx="190440" cy="2700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Соединительная линия уступом 3084"/>
          <p:cNvCxnSpPr/>
          <p:nvPr/>
        </p:nvCxnSpPr>
        <p:spPr>
          <a:xfrm flipV="1">
            <a:off x="3463560" y="2993400"/>
            <a:ext cx="1857960" cy="1872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"/>
          <p:cNvSpPr/>
          <p:nvPr/>
        </p:nvSpPr>
        <p:spPr>
          <a:xfrm>
            <a:off x="324000" y="152280"/>
            <a:ext cx="861984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государственная информационная система прослеживаемости пестицидов и агрохимикат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зданная в целях обеспечения учета партий пестицидов и агрохимикатов при  их обращении (производстве, хранении, перевозке, применении, реализации, обезвреживании, утилизации, уничтожении и захоронении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ла назван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«Сатур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8"/>
          <p:cNvSpPr/>
          <p:nvPr/>
        </p:nvSpPr>
        <p:spPr>
          <a:xfrm>
            <a:off x="325440" y="5845320"/>
            <a:ext cx="88185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жно!!!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июля 2022 год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ующие субъекты, не зарегистрированные в ИС «Сатурн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огут осуществлять обращение пестицидов и агрохимикатов на территории Российской Федер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12640" y="1693800"/>
          <a:ext cx="8242560" cy="4173480"/>
        </p:xfrm>
        <a:graphic>
          <a:graphicData uri="http://schemas.openxmlformats.org/drawingml/2006/table">
            <a:tbl>
              <a:tblPr/>
              <a:tblGrid>
                <a:gridCol w="1994040"/>
                <a:gridCol w="6248520"/>
              </a:tblGrid>
              <a:tr h="1463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должен зарегистрироватьс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ИС «Сатурн»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дические лица и индивидуальные предприниматели, осуществляющие производство, хранение, перевозку, применение, реализацию, обезвреживание, утилизацию, уничтожение и захоронение пестицидов и агрохимикатов (ст.15.2 Федерального закона 109-ФЗ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 безопасном обращении с пестицидами и агрохимикатами» (вступает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илу 01.07.2022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  <a:tr h="214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необходимо сделать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иться на официальном сайте Россельхознадзора </a:t>
                      </a:r>
                      <a:r>
                        <a:rPr b="0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fsvps.gov.ru</a:t>
                      </a:r>
                      <a:r>
                        <a:rPr b="0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)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орядком регистрации хозяйствующих субъектов в ИС «Сатурн»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чать форму заявления.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сти в заявление сведения об организации, местах ведения деятельности, видах объектов и видах деятельности, сведения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уполномоченных лицах организаций, лицах, которые будут осуществлять электронную сертификацию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ить в Управление Россельхознадзора заявление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установленной форм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подачи заяв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 заявок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регистрации в ИС «Сатурн»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тся уже сейчас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1 июля 2021 г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78040" y="274320"/>
            <a:ext cx="7573680" cy="93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ситуация с регистрацией хозяйствующих субъектов в ФГИС «Сатурн» </a:t>
            </a:r>
            <a:br>
              <a:rPr sz="17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состоянию на 14.03.2022)</a:t>
            </a:r>
            <a:endParaRPr b="0" lang="en-US" sz="1200" spc="-1" strike="noStrike">
              <a:solidFill>
                <a:srgbClr val="04617b"/>
              </a:solidFill>
              <a:latin typeface="Arial"/>
            </a:endParaRPr>
          </a:p>
        </p:txBody>
      </p:sp>
      <p:graphicFrame>
        <p:nvGraphicFramePr>
          <p:cNvPr id="206" name="Объект 2"/>
          <p:cNvGraphicFramePr/>
          <p:nvPr/>
        </p:nvGraphicFramePr>
        <p:xfrm>
          <a:off x="609480" y="1339920"/>
          <a:ext cx="8077320" cy="50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39920"/>
                    <a:ext cx="807732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741240" y="2362320"/>
            <a:ext cx="806616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зникающим вопросам просим обращаться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расноярск (тел. 8 (391) 22-66-905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азарово (тел. 8 (39155) 7-22-45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Минусинск (тел. 8 (39132) 5-15-31)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анск (тел. 8 (39161) 9-00-27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5" name="Прямоугольник 1"/>
          <p:cNvSpPr/>
          <p:nvPr/>
        </p:nvSpPr>
        <p:spPr>
          <a:xfrm>
            <a:off x="3287880" y="907920"/>
            <a:ext cx="56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орт зерна и рап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0" y="538200"/>
            <a:ext cx="35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з зерна и рапс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и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87880" y="1676520"/>
          <a:ext cx="5630760" cy="4495680"/>
        </p:xfrm>
        <a:graphic>
          <a:graphicData uri="http://schemas.openxmlformats.org/drawingml/2006/table">
            <a:tbl>
              <a:tblPr/>
              <a:tblGrid>
                <a:gridCol w="1374480"/>
                <a:gridCol w="754200"/>
                <a:gridCol w="830160"/>
                <a:gridCol w="679680"/>
                <a:gridCol w="677880"/>
                <a:gridCol w="679320"/>
                <a:gridCol w="635040"/>
              </a:tblGrid>
              <a:tr h="60948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п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ы пере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404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ару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ги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ербайдж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беки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58920"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52280" y="1676520"/>
          <a:ext cx="3019680" cy="4549680"/>
        </p:xfrm>
        <a:graphic>
          <a:graphicData uri="http://schemas.openxmlformats.org/drawingml/2006/table">
            <a:tbl>
              <a:tblPr/>
              <a:tblGrid>
                <a:gridCol w="1266840"/>
                <a:gridCol w="914400"/>
                <a:gridCol w="838440"/>
              </a:tblGrid>
              <a:tr h="582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ше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5,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чм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,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ж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и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п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2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пере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36600"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2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9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енный запрет на вывоз зерновых культур за пределы территории РФ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3000"/>
          </a:bodyPr>
          <a:p>
            <a:pPr indent="425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постановлению Правительства РФ от 14.03.2022 N 362 «О введении временного запрета на вывоз зерновых культур за пределы территории Российской Федерации»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 15 марта по 30 июня 2022 г. установлен временный запрет на вывоз из Российской Федерации пшеницы и меслина, ржи, ячменя и кукурузы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425160"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ый запрет не распространяется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425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ерновые культуры, вывозимые с территории Российской Федерации в качестве припа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для оказания международной гуманитарной помощи иностранным государствам на основании решений Правительства Российской Федер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в Республику Абхазия, Республику Южная Осетия, Донецкую Народную Республику и Луганскую Народную Республик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на основании разовых лицензий на экспорт, выданных Министерством промышленности и торговли Российской Федерации в соответствии с пунктом 7 постановления Правительства Российской Федераци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31 декабря 2021 г. N 2595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в Республику Белоруссию в рамках Союзного государ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25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366F-3F32-44BD-864B-45FB8C87DEE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aphicFrame>
        <p:nvGraphicFramePr>
          <p:cNvPr id="104" name=""/>
          <p:cNvGraphicFramePr/>
          <p:nvPr/>
        </p:nvGraphicFramePr>
        <p:xfrm>
          <a:off x="457200" y="1523880"/>
          <a:ext cx="8280360" cy="4927680"/>
        </p:xfrm>
        <a:graphic>
          <a:graphicData uri="http://schemas.openxmlformats.org/drawingml/2006/table">
            <a:tbl>
              <a:tblPr/>
              <a:tblGrid>
                <a:gridCol w="720720"/>
                <a:gridCol w="4141800"/>
                <a:gridCol w="3417840"/>
              </a:tblGrid>
              <a:tr h="3384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280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семя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пос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281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посев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начала убор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нтинное фитосанитарное обеззараживание мест хран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закладкой на хра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6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зернохранилищ, в том числе с использованием феромонных ловуш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закладкой на хранение и в процессе хра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3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 заявки в ИС Цербер на включение в списки разрешенных предпри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проведения мониторинговых меропри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6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ие (аттестац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дней с даты подачи заявки в ИС Церб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9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ая фитосанитарная экспертиза хранящегося зер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оцессе хра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8398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тосанитарная экспертиза партий зерна и транспортных средств, подготовленных к погрузк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погрузкой в транспортное сред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 заявления на Ф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отправкой на эк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</a:tbl>
          </a:graphicData>
        </a:graphic>
      </p:graphicFrame>
      <p:sp>
        <p:nvSpPr>
          <p:cNvPr id="105" name="Rectangle 1"/>
          <p:cNvSpPr/>
          <p:nvPr/>
        </p:nvSpPr>
        <p:spPr>
          <a:xfrm>
            <a:off x="684360" y="567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роприятия для экспорта зерна в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8" name="Rectangle 1"/>
          <p:cNvSpPr/>
          <p:nvPr/>
        </p:nvSpPr>
        <p:spPr>
          <a:xfrm>
            <a:off x="684360" y="7797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менения при экспорте в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язи с вступлением в силу Приказа Главного таможенного управления Китая № 248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января 2022 год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ое ведомство Китая ведет списки зарегистрированных компаний-производителей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вой муки, рисовой муки, муки из сушеных бобовых, пшеничной муки, пищевых растительных масел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кспорта в Китай  муки и растительного масла, хозяйствующему субъекту необходимо самостоятельно зарегистрироваться и подать заявку в систему Единого окна ГТУ Китая по ссылке: </a:t>
            </a:r>
            <a:r>
              <a:rPr b="0" lang="ru-RU" sz="1400" spc="-1" strike="noStrike" u="sng">
                <a:solidFill>
                  <a:srgbClr val="f49100"/>
                </a:solidFill>
                <a:uFillTx/>
                <a:latin typeface="Times New Roman"/>
                <a:ea typeface="Times New Roman"/>
                <a:hlinkClick r:id="rId2"/>
              </a:rPr>
              <a:t>www.ciferquery.singlewindow.cn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ство пользователя для самостоятельной регистрации на Портале Главного таможенного управления Китая, размещено на официальном сайте Россельхознадзора в разделе «Ввоз.Вывоз.Транзит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я компетентным органом страны производства продукции не требуется. При возникновении технических вопросов обращаться в ГТУ КНР по телефону: +86-10-6519-4187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НР разрешен экспорт из РФ следующих видов зерновых: пшеница, ячмень, рапс, кукуруза, рис, соя, гречиха/крупа гречневая, овес/овсяные хлопья, семена подсолнечника, семена льна, соевый, рапсовый, подсолнечный шроты, жмыхи и свекловичный ж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4 февраля 2022 года между Россельхознадзором и ГТУ КНР подписаны дополнения к протоколам о фитосанитарных требованиях к пшенице и ячменю, экспортируемым из Российской Федерации в Китайскую Народную Республику, позволяющие начать осуществлять поставки данной продукции из всех регионов Российской Федерации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76a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2" name="Прямоугольник 11"/>
          <p:cNvSpPr/>
          <p:nvPr/>
        </p:nvSpPr>
        <p:spPr>
          <a:xfrm>
            <a:off x="369720" y="609480"/>
            <a:ext cx="821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нтинные фитосанитарные зоны по вредител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охозяйственных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51000" y="1752480"/>
          <a:ext cx="8542080" cy="4800600"/>
        </p:xfrm>
        <a:graphic>
          <a:graphicData uri="http://schemas.openxmlformats.org/drawingml/2006/table">
            <a:tbl>
              <a:tblPr/>
              <a:tblGrid>
                <a:gridCol w="3135240"/>
                <a:gridCol w="2663640"/>
                <a:gridCol w="1274760"/>
                <a:gridCol w="1468440"/>
              </a:tblGrid>
              <a:tr h="322200"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карантинного объе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ый райо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КФЗ (шт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ая площадь (г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ком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86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дный цветочный трипс                                             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kliniella occidentalis (Pergande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Красноярс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5044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точная плодожорк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pholita molesta (Busck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Красноярск, Минусинский райо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86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илики 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scuta spp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т.ч. повилика европейская, повилика хмелевидна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районов, 3 гор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5 млн.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т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92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истая картофельная немат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Globodera rostochiensis Behren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2021 году на территории Красноярского края упразднены все карантинные фитосанитарные зоны (113 зон) и отменен карантинный фитосанитарный режим по золотистой картофельной нематоде на площади 9,1 тыс. 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6" name="Прямоугольник 5"/>
          <p:cNvSpPr/>
          <p:nvPr/>
        </p:nvSpPr>
        <p:spPr>
          <a:xfrm>
            <a:off x="1992240" y="6858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оформление ФСС при экспор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5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рядком выдачи фитосанитарного сертификата, реэкспортного фитосанитарного сертификата, карантинного сертификата, утвержденного приказом Минсельхоза России от 13.07.2016 № 293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СС может быть переоформлен в течение срока действия сертификата, а также если срок действия ФСС истек не более одного раза без проведения дополнительных исследований, при условии сохранения целостности партии, в регионе деятельности которого находится перевозимая подкарантинная продукция, в течение 1 рабочего д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оформление ФСС допускается во время нахождения в пути партии подкарантинной продукции. Переоформленный ФСС выдается в пунктах пропуска через государственную границу Российской Федерации после проведения должностным лицом территориального подразделения уполномоченного органа, на территории которого расположено место убытия, осмотра партии подкарантинной продукции на предмет сохранения целостности парт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е о необходимости переоформления может быть подано письменно, в электронной форме или любым доступным способом, в том числе во время нахождения партии подкарантинной продукции в пу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за перемещением партии подкарантинной продукции до момента пересечения границы осуществляют сами  хозяйствующие субъекты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76200" y="3967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е в законодательстве в области безопасност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ачества зерн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19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2" name="Заголовок 1"/>
          <p:cNvSpPr/>
          <p:nvPr/>
        </p:nvSpPr>
        <p:spPr>
          <a:xfrm>
            <a:off x="15228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304920" y="1728000"/>
            <a:ext cx="8588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РФ от 14.05.1993 N 4973-1 (ред. от 28.06.2021) «О зерне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19.06.2021 N 936 "О порядке регистрации, приостановления, возобновления и прекращения действия деклараци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оответствии, признания их недействительными и порядке приостановления, возобновления и прекращения действия сертификатов соответствия, признания их недействительными» - 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- 21.06.2021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 исключением отдельных положен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9 октября 2021 г. N 1722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федеральной государственной информационной системе прослеживаемости зерна и продуктов переработки зерна»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– 13.10.2021 (за исключением отдельных положен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9 октября 2021 г. N 1721 «Об утверждении правил оформления товаросопроводительного документа на партию зерна и партию продуктов переработки зерна в федеральной государственной информационной системе прослеживаемости зерна и продуктов переработки зерна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– 01.09.20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47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начнет действоват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государственная информационна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прослеживаемости зерн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25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8" name="Rectangle 11"/>
          <p:cNvSpPr/>
          <p:nvPr/>
        </p:nvSpPr>
        <p:spPr>
          <a:xfrm>
            <a:off x="228600" y="3997440"/>
            <a:ext cx="4267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8" descr="C:\Users\konoplyankina\Desktop\DSC01318.JPG"/>
          <p:cNvPicPr/>
          <p:nvPr/>
        </p:nvPicPr>
        <p:blipFill>
          <a:blip r:embed="rId3"/>
          <a:stretch/>
        </p:blipFill>
        <p:spPr>
          <a:xfrm>
            <a:off x="5334120" y="4803840"/>
            <a:ext cx="3809880" cy="182880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3"/>
          <p:cNvSpPr/>
          <p:nvPr/>
        </p:nvSpPr>
        <p:spPr>
          <a:xfrm>
            <a:off x="304920" y="2333520"/>
            <a:ext cx="8300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сист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еремещений партий зерна и продуктов его перерабо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сведений о потребительских свойствах зерна и продуктов его перерабо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сопроводительных документов для идентификации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 возврате/ утилизации партии зерна, обладающего опасными свойств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находящихся на хранении или в переработке партий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б экспорте – импорте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 закупке партий зерна и партий продуктов переработки зерна для государственных нуж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228600" y="17496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следить жизненный цикл продукции от момента ее производства до выпуск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ращение, а также сформировать систему контроля качества выращенного зер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05:58:40Z</dcterms:created>
  <dc:creator>Рыбакова Л.</dc:creator>
  <dc:description/>
  <dc:language>en-US</dc:language>
  <cp:lastModifiedBy>Филимохин Валентин Сергеевич</cp:lastModifiedBy>
  <cp:lastPrinted>2021-02-11T03:59:45Z</cp:lastPrinted>
  <dcterms:modified xsi:type="dcterms:W3CDTF">2022-03-17T09:50:44Z</dcterms:modified>
  <cp:revision>9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